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555120"/>
            <a:ext cx="7389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89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3984120"/>
            <a:ext cx="7389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555120"/>
            <a:ext cx="7389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1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7200" y="1676520"/>
            <a:ext cx="36061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3984120"/>
            <a:ext cx="36061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7200" y="3984120"/>
            <a:ext cx="36061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555120"/>
            <a:ext cx="7389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237924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9120" y="1676520"/>
            <a:ext cx="237924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520" y="1676520"/>
            <a:ext cx="237924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3984120"/>
            <a:ext cx="237924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9120" y="3984120"/>
            <a:ext cx="237924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520" y="3984120"/>
            <a:ext cx="237924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555120"/>
            <a:ext cx="7389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1676520"/>
            <a:ext cx="738972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555120"/>
            <a:ext cx="7389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8972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555120"/>
            <a:ext cx="7389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12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7200" y="1676520"/>
            <a:ext cx="360612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555120"/>
            <a:ext cx="7389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555120"/>
            <a:ext cx="73897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555120"/>
            <a:ext cx="7389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1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7200" y="1676520"/>
            <a:ext cx="360612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3984120"/>
            <a:ext cx="36061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555120"/>
            <a:ext cx="7389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12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7200" y="1676520"/>
            <a:ext cx="36061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7200" y="3984120"/>
            <a:ext cx="36061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555120"/>
            <a:ext cx="7389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1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7200" y="1676520"/>
            <a:ext cx="36061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3984120"/>
            <a:ext cx="7389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52280" y="6213600"/>
            <a:ext cx="2210040" cy="4158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2590920" y="6318360"/>
            <a:ext cx="6400800" cy="29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555120"/>
            <a:ext cx="7389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0360" y="1676520"/>
            <a:ext cx="738972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89"/>
              </a:spcBef>
              <a:buClr>
                <a:srgbClr val="000000"/>
              </a:buClr>
              <a:buFont typeface="Time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22860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27040" indent="-228600">
              <a:spcBef>
                <a:spcPts val="689"/>
              </a:spcBef>
              <a:buClr>
                <a:srgbClr val="000000"/>
              </a:buClr>
              <a:buFont typeface="Time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770120" indent="-228600">
              <a:spcBef>
                <a:spcPts val="689"/>
              </a:spcBef>
              <a:buClr>
                <a:srgbClr val="000000"/>
              </a:buClr>
              <a:buFont typeface="Time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770120" indent="-228600">
              <a:spcBef>
                <a:spcPts val="689"/>
              </a:spcBef>
              <a:buClr>
                <a:srgbClr val="000000"/>
              </a:buClr>
              <a:buFont typeface="Time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770120" indent="-228600">
              <a:spcBef>
                <a:spcPts val="689"/>
              </a:spcBef>
              <a:buClr>
                <a:srgbClr val="000000"/>
              </a:buClr>
              <a:buFont typeface="Time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66720" y="157140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Beyond Bouncing Boxe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12920" y="2344320"/>
            <a:ext cx="6477120" cy="15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HG Mincho Light J"/>
              </a:rPr>
              <a:t>Fast, yet still Realistic, Deformation and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76960" y="4758480"/>
            <a:ext cx="27608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Jeff La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Darwin 3D, L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Luxofl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4480" y="4767120"/>
            <a:ext cx="3016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James O'B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U. of California, Berke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555480"/>
            <a:ext cx="73911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Integration Example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The trampoline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6960" y="1831680"/>
            <a:ext cx="79740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ynamics elements pinned to rigid objec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61960" y="2471760"/>
          <a:ext cx="8132760" cy="35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2471760"/>
                    <a:ext cx="813276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555480"/>
            <a:ext cx="73911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Breaking Link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What if we want to allow break to break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ed a method of measuring the stress on each element. Consider a spring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43360" y="3699000"/>
            <a:ext cx="3533760" cy="20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555480"/>
            <a:ext cx="73911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Measuring Strain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3932280"/>
            <a:ext cx="7391160" cy="21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Engineering Strai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2000"/>
              </a:lnSpc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(l-L)/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reen Strai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Tahoma"/>
              </a:rPr>
              <a:t>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= (l</a:t>
            </a:r>
            <a:r>
              <a:rPr b="1" lang="en-GB" sz="2400" spc="-1" strike="noStrike" baseline="33000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– L</a:t>
            </a:r>
            <a:r>
              <a:rPr b="1" lang="en-GB" sz="2400" spc="-1" strike="noStrike" baseline="33000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)/2L</a:t>
            </a:r>
            <a:r>
              <a:rPr b="1" lang="en-GB" sz="2400" spc="-1" strike="noStrike" baseline="33000">
                <a:solidFill>
                  <a:srgbClr val="000000"/>
                </a:solidFill>
                <a:latin typeface="Tahom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55960" y="1635120"/>
            <a:ext cx="353376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555480"/>
            <a:ext cx="73911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Breaking Link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672920"/>
            <a:ext cx="7391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etermine where a link has broke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ed to relate the strain to the material properties of the ele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ess is the value of force per unit are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ess is related to strain by the material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228600">
              <a:spcBef>
                <a:spcPts val="488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ress = K E</a:t>
            </a:r>
            <a:r>
              <a:rPr b="1" lang="en-GB" sz="2000" spc="-1" strike="noStrike" baseline="-33000">
                <a:solidFill>
                  <a:srgbClr val="000000"/>
                </a:solidFill>
                <a:latin typeface="Tahoma"/>
              </a:rPr>
              <a:t>G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228600">
              <a:spcBef>
                <a:spcPts val="488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K is measure of stiffness (Young Modulu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228600">
              <a:spcBef>
                <a:spcPts val="488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Hooke's Law of Elastic Material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ive this we can set a stress fracture threshol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555480"/>
            <a:ext cx="73911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Breaking Element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672920"/>
            <a:ext cx="7391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Extending the same idea to tetrahedr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implified version of O'Brien frac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e have a measure of strain on each nod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f it exceeds a threshold, a break has occurr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ynamically create a new node and split any attached nodes to respective elements along separation plan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228600">
              <a:spcBef>
                <a:spcPts val="488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rawback is fractures follow mesh topolog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6600" y="439560"/>
            <a:ext cx="7391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Breaking Elements Example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636200"/>
            <a:ext cx="41749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Forces produce fracture at element with high stres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se thresholds can easily be set for each materi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57880" y="1319040"/>
          <a:ext cx="3375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7880" y="1319040"/>
                    <a:ext cx="3375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555480"/>
            <a:ext cx="73911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Lighting Deformable Model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computing the surface normals for deformable body is expensiv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 behaves mostly like rigid bod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e can extract a reference frame from the moved mo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is gives a general basis for rotating the surface normal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228600">
              <a:spcBef>
                <a:spcPts val="488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ill not be correct in areas of deform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228600">
              <a:spcBef>
                <a:spcPts val="488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n areas where elements at the surface are deformed, normals can be manual recomput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e demonst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4000" y="402840"/>
            <a:ext cx="739152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Collision Detection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14120" y="1127160"/>
            <a:ext cx="739116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We know what elements and faces are at the surfa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rack these and use for interaction calcul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ABB Trees sized to the mo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ositions can be quickly indexed to a position in the tre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 test point generates a group of elements to test agains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stance tests to elements in tree determine potential collision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54000" y="402840"/>
            <a:ext cx="739152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Collision Detection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14120" y="112680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nce position of collision is determine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orce response needs to be applied to nodes of element.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arycentric Coordinates provide method for applying the response for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79800" y="3260880"/>
          <a:ext cx="338148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9800" y="3260880"/>
                    <a:ext cx="338148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353520"/>
            <a:ext cx="739116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Performance Issue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7760" y="1285560"/>
            <a:ext cx="739152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Volume elements methods are well suited to modern game hardwa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athematics involves much vector processing that can be run in parall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ots of opportunities for task splitting and optimization tricks (dynamic LOD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arge portions of many deformable objects can be treated like a rigid bod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its well in an overall dynamic system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507960"/>
            <a:ext cx="739116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Practical Aspects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Using a soft body simulator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100240"/>
            <a:ext cx="739116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How do we implement the techniques discussed in a real-world application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spects important to produ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for content cre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obust!!! as well as consist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ntegrates with existing architec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ow performance impac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nders nice model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555480"/>
            <a:ext cx="73911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Example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asic Deformable Mo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aterial Propert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tegration with static ele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reaking Ele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ynamic Surface Normal calcula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440" y="1317600"/>
            <a:ext cx="813132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Tetrahedral mesh generation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Jonathan Shewchuk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ww-2.cs.cmu.edu/~jrs/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ww.andrew.cmu.edu/user/sowen/softsurv.htm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el Damage Physics, Penalty Methods, Implicit Eul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avid Wu  www.pseudointeractive.com/about.shtm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llision Detection and Deformable Model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tin, et al, “Real-time elastic deformations of soft tissues for surgery simulation”,1999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ino van den Bergen's work www.win.tue.nl/~gino/solid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James O'Brien Homepage with all of his papers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ww.cs.berkeley.edu/~job/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ore references and samples at www.darwin3d.co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977760" y="566640"/>
            <a:ext cx="73915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For Further Info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507960"/>
            <a:ext cx="739116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Content Creation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360" y="2100240"/>
            <a:ext cx="739116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rtist don't want to build things out of volume ele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ed an automated process that works from surface mo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ynamic model can be a simplified objec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so need to maintain relationship between artistic and dynamic mo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ustom tweaking will be need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9200" y="239760"/>
            <a:ext cx="739116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Content Creation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4000" y="1184400"/>
            <a:ext cx="73915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oundary constrained Delaunay tetrahedraliz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ral resources for this.  [Shewchuk] has the most readable info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reates a set of tetrahedra from a boundary surfac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ry to use existing vertices as nod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ill create extra nodes as need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 to have settings to adjust min/max volume to refine mes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ntegrated with toolset for testing/revisions/tweak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14120" y="383760"/>
            <a:ext cx="73911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Input mesh and Tetrahedra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46280" y="1515960"/>
          <a:ext cx="6086520" cy="461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515960"/>
                    <a:ext cx="608652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7760" y="353880"/>
            <a:ext cx="739152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Simplified Dynamic Model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41400" y="1298160"/>
            <a:ext cx="739152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an use 1 to 1 mapping with display verti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r Use a lower detail dynamic model for the deformation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ynamic Mesh deforms hires mes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Use matrix blending technique like for skinned charact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ther methods like FFD would work as wel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is complicates things if you want to use any form of fractu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7760" y="353880"/>
            <a:ext cx="739152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Stay Tweakable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41400" y="129816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o good just having a post process that creates the mesh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You WILL need to change the dynamic model as well as the artistic on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Keep an associated dynamic mesh file or as data attached to the art mesh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eed to be able to load, tweak, save..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ake it part of the toolset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7760" y="353880"/>
            <a:ext cx="739152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Robust Dynamic Model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1400" y="1298520"/>
            <a:ext cx="739152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obustness is ke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acrifice realism for stabil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Validate stability for your given sim situatio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ake sure it can't blow up given what you may throw at i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rsenal of numerical integrato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xplicit Euler will not cut it (many paper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 currently use a 2</a:t>
            </a:r>
            <a:r>
              <a:rPr b="1" lang="en-GB" sz="2400" spc="-1" strike="noStrike" baseline="33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rder PC and RK-2/4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ill be adding Implicit Euler for when the going gets real stiff – [See Wu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555480"/>
            <a:ext cx="73911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  <a:ea typeface="HG Mincho Light J"/>
              </a:rPr>
              <a:t>Integration with System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165276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ynamics need to integrate with existing game ele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 many cases not everything will be made deformab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eformable material should be able to be anchored to static elements or rigid dynamic piec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one by supporting pin and spring constraints to materia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