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AB40-793E-4241-8ED3-AF2730E37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600200" y="3984840"/>
            <a:ext cx="678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82F6-D8E5-468C-9EA2-FB494E11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3309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75280" y="1676520"/>
            <a:ext cx="3309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00200" y="3984840"/>
            <a:ext cx="3309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75280" y="3984840"/>
            <a:ext cx="3309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8A0AD-3118-4320-BFB9-9BA51254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218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93040" y="1676520"/>
            <a:ext cx="218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6240" y="1676520"/>
            <a:ext cx="218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600200" y="3984840"/>
            <a:ext cx="218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93040" y="3984840"/>
            <a:ext cx="218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6240" y="3984840"/>
            <a:ext cx="2183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EE63-1DF3-4686-9112-8E5636910E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86DF-9C2D-467A-945A-048AEEE4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EE1E-9D6A-48CD-BCE2-9EC6826B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3309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676520"/>
            <a:ext cx="3309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F854-6D27-4E43-8CBF-8BD1AF18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9AB72-3698-4536-A492-B6D7295F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00200" y="76212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3BF1-966E-4C82-88EE-723A8942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3309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5280" y="1676520"/>
            <a:ext cx="3309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84840"/>
            <a:ext cx="3309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D00E-54F8-4BD7-AAFE-DCA0E151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3309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75280" y="1676520"/>
            <a:ext cx="3309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5280" y="3984840"/>
            <a:ext cx="3309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88D6-0A74-4EA4-A107-CED8D541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3309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5280" y="1676520"/>
            <a:ext cx="33091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3984840"/>
            <a:ext cx="6781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1549-A8A6-44A7-8ED8-B5838BFF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35268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D1F1-2249-4AC8-B2E5-C5131BD0CB4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704880" cy="704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0"/>
            <a:ext cx="704880" cy="704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62120"/>
            <a:ext cx="704880" cy="7048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3880" y="0"/>
            <a:ext cx="704880" cy="7048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1523880"/>
            <a:ext cx="704880" cy="704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62120" y="762120"/>
            <a:ext cx="704880" cy="7048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439120" y="3809880"/>
            <a:ext cx="704880" cy="704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572000"/>
            <a:ext cx="704880" cy="704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867560" y="6248520"/>
            <a:ext cx="36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Arial"/>
              </a:rPr>
              <a:t>innova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interac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pir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188280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http://www.cs.brown.edu/people/bjm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arwin3d.com/" TargetMode="External"/><Relationship Id="rId3" Type="http://schemas.openxmlformats.org/officeDocument/2006/relationships/hyperlink" Target="http://www.red3d.com/cwr/npr/" TargetMode="External"/><Relationship Id="rId4" Type="http://schemas.openxmlformats.org/officeDocument/2006/relationships/hyperlink" Target="http://www.red3d.com/cwr/npr/" TargetMode="External"/><Relationship Id="rId5" Type="http://schemas.openxmlformats.org/officeDocument/2006/relationships/hyperlink" Target="http://www.red3d.com/cwr/npr/" TargetMode="External"/><Relationship Id="rId6" Type="http://schemas.openxmlformats.org/officeDocument/2006/relationships/hyperlink" Target="http://www.red3d.com/cwr/npr/" TargetMode="External"/><Relationship Id="rId7" Type="http://schemas.openxmlformats.org/officeDocument/2006/relationships/hyperlink" Target="http://www.red3d.com/cwr/npr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al-time Artistic and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on-photorealistic Rendering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 La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win 3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ffl@darwin3d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irection of Talk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artistic 3D real-time styles and how to achieve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the limiting fa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new hardware do for 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n’t it get yo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Law # 2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y body in motion will tend to remain in motion until solid matter intervenes suddenly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Styl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concept to gras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enty of example 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experienced artist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ds itself well to g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toon licensed projects…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en id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shipped in g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Styl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6781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is a style need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CG lighting model doesn’t work well for cartoon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00200" y="2805120"/>
          <a:ext cx="6353280" cy="35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805120"/>
                    <a:ext cx="635328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Rendering Method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920" y="243792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 up the problem as traditional animators d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Style – Painting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6782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control is the number paint shades across the surfa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t shading for original cell l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n’t give much depth thoug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s hardware interpolates color in a linear fash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ant a non-linear color interpo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Style – Painting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nvironment map aligned to the light source would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encode a non-linear function in a 1D text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use bilinear filt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t product of principal light vector and vertex normal determine the shade to use at each vertex (L dot 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2320" y="5334120"/>
          <a:ext cx="4822560" cy="81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5334120"/>
                    <a:ext cx="48225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Style – Painting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de texture is modulated with base material or texture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Requires multi-tex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able graphics hardware allow this to be computed on the c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 with the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flat areas can lead to abrupt changes in col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Style – Painting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de table can be also used as a switch to select between textures/mate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pha channel is a switch selecting between two tex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done in two passes norm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single pass with hardware supporting 3 tex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Law # 3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29718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y body passing through solid matter will leave a perforation conforming to its perimeter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243792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am I and why am I standing her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you need to know to follow along with what’s being sai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Style - Inking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types of lines on a cartoon ob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lhouette 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 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rial 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stic 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What is an edge?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dge of a polyg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 regular, closed mesh each edge is connected to two polyg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use the normals of these connected faces to classify the 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ilhouette Edg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face normal points toward camera and one points a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depend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Hard Edg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le between adjacent normals greater than a thresh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uld be drawn if in 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one face normal is pointed to cam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view depend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depend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mable objects need to be re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be baked in tex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aterial Edg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ges where shared polygons use different mate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depend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be baked in tex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handle bumpi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ainting technique on bumpma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rtistic Edg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st Marks edges they would like to have ink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be baked in tex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tecting the Silhouett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ts of research on the topic on variety of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Image Processing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 Pseudo Det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te Force Det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ilhouette Dete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D Image Processing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der the object depth buffer and use image processing techniques to find the silhouet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ly may not be that useful for real-time game situ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hardware may offer some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ilhouette Dete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 Pseudo Det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edges as lines with culling rever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-fighting can be problem (stencil hel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 draw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ilhouette Dete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 Pseudo Det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object again with vertices scaled along norm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 effect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 tired of scanning in photos and putting them on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 tired of people saying your characters don’t look realistic, they look creep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are tired of that gothic space dungeon look and want something differ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you just really like carto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ilhouette Dete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 Pseudo Det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 map where half texture is bl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E dot N near 0 as a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done as a vertex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s nearly on silhouette end up draw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ilhouette Dete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 Pseudo Det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dot N near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Vidia idea can hel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Figure3" descr=""/>
          <p:cNvPicPr/>
          <p:nvPr/>
        </p:nvPicPr>
        <p:blipFill>
          <a:blip r:embed="rId2"/>
          <a:stretch/>
        </p:blipFill>
        <p:spPr>
          <a:xfrm>
            <a:off x="5181480" y="2133720"/>
            <a:ext cx="27561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ilhouette Dete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467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ustom Mipmap to limit effect to very small polyg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Figure4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797256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ilhouette Detectio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te Force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at each edge and classif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 frame to frame and spacial coh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pective mat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ts of algorithms to look 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osian randomize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lhouette Edges are useful for other th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shadow volu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Law #4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speed increases, objects can be in several places at onc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ndering Ink Lin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 drawing each edge is not that intere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ould be good to group edges into artistic stro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D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ndering Ink Lin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ke Building 2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edges rendered into frame buffer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olor ID method to locate edges that make up the inked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e edges to build str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s nice long stro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 with frame to frame coh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ndering Ink Lin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ke Building 3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 a list of all 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lanar ed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rt edges in some “artistic fashion”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 connected list of edges as a strok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maximum angle, walk up and down edge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rendering walk edge database and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ndering Ink Lin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line primi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tter and repeat, use alpha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ured polygons facing camer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width along perpendicular to edge direction, texture, scale, jit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09680" y="3657600"/>
          <a:ext cx="4943520" cy="217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3657600"/>
                    <a:ext cx="494352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ther Sketch Styl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along Principal and Secondary direction of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 direction is vector of greatest curv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ary is perpendicular to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to tangent space issue for ligh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on texture or detect position on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er with implicit models then polyg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rtoon Law # 1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1237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y body suspended in space will remain in space until made aware of its situati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ther Styl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f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walski et 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icit rendered structure is attached to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ftals are drawn on silhouette or to simulate texture of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me to Frame coherence is an iss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 of hardware make this an interesting method for stylized trees and s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kowalski_99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2800440" cy="3753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ther Styl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ftals: Michael Kowalsk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cs.brown.edu/people/ma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ther Styl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erly Rende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bara Meier, 9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 strokes built directly on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, texture, stroke variation are artistically or programmatically control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zan – Deep Canv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meier_96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5386320" cy="32022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ther Sketch Styl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erly Rendering: Barbara Mei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3097c"/>
                </a:solidFill>
                <a:uFillTx/>
                <a:latin typeface="Arial"/>
                <a:hlinkClick r:id="rId3"/>
              </a:rPr>
              <a:t>www.cs.brown.edu/people/bj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ther Styl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on 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done in model by art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les can be attached and stream from model ver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 directly to dynamics eng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ke et al, 2000 is a good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ther Styl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n Gog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starry-night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520524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0200" y="14479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list of references, samples, and the slides on my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097c"/>
                </a:solidFill>
                <a:uFillTx/>
                <a:latin typeface="Arial"/>
                <a:hlinkClick r:id="rId2"/>
              </a:rPr>
              <a:t>www.darwin3d.c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eat reference for all the authors mentioned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097c"/>
                </a:solidFill>
                <a:uFillTx/>
                <a:latin typeface="Arial"/>
                <a:hlinkClick r:id="rId3"/>
              </a:rPr>
              <a:t>www.red3d.com/</a:t>
            </a:r>
            <a:r>
              <a:rPr b="1" lang="en-US" sz="2400" spc="-1" strike="noStrike" u="sng">
                <a:solidFill>
                  <a:srgbClr val="93097c"/>
                </a:solidFill>
                <a:uFillTx/>
                <a:latin typeface="Arial"/>
                <a:hlinkClick r:id="rId4"/>
              </a:rPr>
              <a:t>cwr</a:t>
            </a:r>
            <a:r>
              <a:rPr b="1" lang="en-US" sz="2400" spc="-1" strike="noStrike" u="sng">
                <a:solidFill>
                  <a:srgbClr val="93097c"/>
                </a:solidFill>
                <a:uFillTx/>
                <a:latin typeface="Arial"/>
                <a:hlinkClick r:id="rId5"/>
              </a:rPr>
              <a:t>/</a:t>
            </a:r>
            <a:r>
              <a:rPr b="1" lang="en-US" sz="2400" spc="-1" strike="noStrike" u="sng">
                <a:solidFill>
                  <a:srgbClr val="93097c"/>
                </a:solidFill>
                <a:uFillTx/>
                <a:latin typeface="Arial"/>
                <a:hlinkClick r:id="rId6"/>
              </a:rPr>
              <a:t>npr</a:t>
            </a:r>
            <a:r>
              <a:rPr b="1" lang="en-US" sz="2400" spc="-1" strike="noStrike" u="sng">
                <a:solidFill>
                  <a:srgbClr val="93097c"/>
                </a:solidFill>
                <a:uFillTx/>
                <a:latin typeface="Arial"/>
                <a:hlinkClick r:id="rId7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AR Conference 200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ecy, F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hotorealism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lps12" descr=""/>
          <p:cNvPicPr/>
          <p:nvPr/>
        </p:nvPicPr>
        <p:blipFill>
          <a:blip r:embed="rId2"/>
          <a:srcRect l="5998" t="6010" r="0" b="0"/>
          <a:stretch/>
        </p:blipFill>
        <p:spPr>
          <a:xfrm>
            <a:off x="1219320" y="1625760"/>
            <a:ext cx="693396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hotorealism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stellar1crop" descr=""/>
          <p:cNvPicPr/>
          <p:nvPr/>
        </p:nvPicPr>
        <p:blipFill>
          <a:blip r:embed="rId2"/>
          <a:stretch/>
        </p:blipFill>
        <p:spPr>
          <a:xfrm>
            <a:off x="1523880" y="1739880"/>
            <a:ext cx="63486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on-photorealism?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thing else I gues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ey Poin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istic rendering is more about style and creativity than 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D Hardware doesn’t limit creative sty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yle from Texture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590920" y="4032360"/>
          <a:ext cx="3352680" cy="224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4032360"/>
                    <a:ext cx="33526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Viv" descr=""/>
          <p:cNvPicPr/>
          <p:nvPr/>
        </p:nvPicPr>
        <p:blipFill>
          <a:blip r:embed="rId4"/>
          <a:stretch/>
        </p:blipFill>
        <p:spPr>
          <a:xfrm>
            <a:off x="762120" y="1523880"/>
            <a:ext cx="2495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9T22:15:12Z</dcterms:created>
  <dc:creator>Miller Freeman, Inc.</dc:creator>
  <dc:description/>
  <dc:language>en-US</dc:language>
  <cp:lastModifiedBy>Margaret Pomeroy</cp:lastModifiedBy>
  <dcterms:modified xsi:type="dcterms:W3CDTF">2001-04-01T21:26:13Z</dcterms:modified>
  <cp:revision>15</cp:revision>
  <dc:subject/>
  <dc:title>Title Slide</dc:title>
</cp:coreProperties>
</file>