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AD7-B7D5-43EF-B118-8923E24B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536-ADA7-4E58-96C0-C85E45AB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0D7-71C2-47F8-95D4-1893D4A9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D5A-EB46-445E-8F72-BCA23B3C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6948-4AD3-4152-A712-626164FB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F144-6EA0-45D0-8E50-96BB93EC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C95A-3732-4021-B593-F6A611DC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ED26-E5D0-47DB-ACC3-AF897F19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00EB-B7C3-41B8-8FBD-0E803E3E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1C6A-E25C-4A78-9C68-9C3BE02C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1924-116A-43D8-A1B3-113C3652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C2C-1738-4C76-9971-174B64FE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F1C4-F0C2-4153-B378-3DACBB90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5353-8CDC-4DF8-B103-F9900870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FCEA-B098-4813-85E4-B738FB5D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7BCC-DB39-48F5-9205-43C38324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06FC-6407-4A7E-A6A6-35A85EFF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DB2-A70B-4CA5-B5B8-A3EC1EFF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1E3-8CAA-4D74-BCFC-298B543E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B9E1-30DD-4DBB-84DF-EE51923B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4A0-9090-48BD-BC14-C0F881E3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0A5-2F4C-4D48-8843-6A8BC86C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B47-C34B-4F5F-84EC-DE6C88D4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134-F6E6-454E-8D5A-37F6D46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3240"/>
            <a:ext cx="17543160" cy="13690440"/>
            <a:chOff x="-8410320" y="32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d5b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9c0b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32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9c0b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79c0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79c0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79c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79c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9c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9c0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9c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9c0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9c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122B-C148-42AF-8FF5-8C913426BB86}" type="slidenum">
              <a:rPr b="0" lang="en-US" sz="1400" spc="-1" strike="noStrike">
                <a:solidFill>
                  <a:srgbClr val="f79c0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9800" y="1462680"/>
            <a:ext cx="16903800" cy="10793520"/>
            <a:chOff x="-7759800" y="1462680"/>
            <a:chExt cx="1690380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d5b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9c0b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9800" y="146268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79c0b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9c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9c0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9c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9c0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79c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9F00-3D8A-4F53-AD7C-F22FA6D05080}" type="slidenum">
              <a:rPr b="0" lang="en-US" sz="1400" spc="-1" strike="noStrike">
                <a:solidFill>
                  <a:srgbClr val="f79c0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79c0b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79c0b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79c0b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79c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79c0b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79c0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c0b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724280" y="50292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Presenter: Jeff Lander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981080" y="837720"/>
            <a:ext cx="47246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9c0b"/>
                </a:solidFill>
                <a:latin typeface="Arial"/>
              </a:rPr>
              <a:t>Using Technology to </a:t>
            </a:r>
            <a:br>
              <a:rPr sz="4000"/>
            </a:br>
            <a:r>
              <a:rPr b="0" lang="en-US" sz="4000" spc="-1" strike="noStrike">
                <a:solidFill>
                  <a:srgbClr val="f79c0b"/>
                </a:solidFill>
                <a:latin typeface="Arial"/>
              </a:rPr>
              <a:t>Create Believable 3D Characters</a:t>
            </a:r>
            <a:endParaRPr b="0" lang="en-US" sz="4000" spc="-1" strike="noStrike">
              <a:solidFill>
                <a:srgbClr val="e3a35b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7800" y="6254640"/>
            <a:ext cx="3897360" cy="614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47560"/>
            <a:ext cx="2041560" cy="23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6410160" y="281160"/>
          <a:ext cx="209556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10160" y="281160"/>
                    <a:ext cx="20955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0" y="3882960"/>
            <a:ext cx="4343400" cy="2973600"/>
          </a:xfrm>
          <a:prstGeom prst="rect">
            <a:avLst/>
          </a:prstGeom>
          <a:ln w="0">
            <a:noFill/>
          </a:ln>
        </p:spPr>
      </p:pic>
      <p:pic>
        <p:nvPicPr>
          <p:cNvPr id="95" name="Viv" descr=""/>
          <p:cNvPicPr/>
          <p:nvPr/>
        </p:nvPicPr>
        <p:blipFill>
          <a:blip r:embed="rId6"/>
          <a:stretch/>
        </p:blipFill>
        <p:spPr>
          <a:xfrm>
            <a:off x="6019920" y="2438280"/>
            <a:ext cx="284148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96840" y="1447920"/>
            <a:ext cx="6081840" cy="526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600200"/>
            <a:ext cx="761976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rest(b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current(b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def(b)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What’s the math?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1371600"/>
            <a:ext cx="769608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defor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= M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rest(b)</a:t>
            </a:r>
            <a:r>
              <a:rPr b="0" lang="en-US" sz="40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current(b)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each vertex N: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Final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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N(b)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* ( M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defor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)}</a:t>
            </a:r>
            <a:endParaRPr b="0" lang="en-US" sz="40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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Arial"/>
              </a:rPr>
              <a:t>N(b)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= 1</a:t>
            </a:r>
            <a:endParaRPr b="0" lang="en-US" sz="40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What’s the math?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3200" y="312408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 Bones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7800" y="3976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7400" y="518148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# Bones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958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What about hardware T&amp;L?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The next generation of 3D graphics boards will supports vertex shaders which will allow for vertex blending with multiple contributing matrices per vertex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DX8 will expose this functionality and provide a software solution when hardware is not available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OpenGL extensions will be developed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Art Issue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Be sure to get a good animation packag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Has skeletal animation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Supports Weighting of vertices 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(manual or by algorithm)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Exposes this info for use in game!!!!!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Weighting a skin is an art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Hire a good character setup person and keep them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Bones aren’t free so be stingy with artist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Art Issue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Know what features you will eventually want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This dictates art decision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Make sure you have the bones you need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Same skeleton in all animation sequence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Model changes can mean re-weighting vertice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Be pretty happy with your model before setting up the character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Normal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5341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Normals need to go through the rotation matrix not the complete transformation matrix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What can you do with it?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Dynamic deformation effect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Look-at constraint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IK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Secondary motion 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Blend motion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Facial Animation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848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Dynamic Deformation Effec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You have those bones lying around so use them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Dynamically change the skeleton to achieve an effect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848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Look-At Constrain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Simplest form of IK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Normally the head but could be hand with gun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76720" y="3733920"/>
          <a:ext cx="299880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733920"/>
                    <a:ext cx="299880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848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Look-At Constrain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Recall that an orientation matrix is composed of the local axis unit vector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Right, Up, and Forward unit vector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523880" y="2819520"/>
                <a:ext cx="6324840" cy="23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ientation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x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x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x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y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y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y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z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z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z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24280" y="5029200"/>
            <a:ext cx="4191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Presenter: Jeff Lander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904760" y="1219320"/>
            <a:ext cx="47242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9c0b"/>
                </a:solidFill>
                <a:latin typeface="Arial"/>
              </a:rPr>
              <a:t>I’ve done </a:t>
            </a:r>
            <a:br>
              <a:rPr sz="4000"/>
            </a:br>
            <a:r>
              <a:rPr b="0" lang="en-US" sz="4000" spc="-1" strike="noStrike">
                <a:solidFill>
                  <a:srgbClr val="f79c0b"/>
                </a:solidFill>
                <a:latin typeface="Arial"/>
              </a:rPr>
              <a:t>a walking/shooting mannequin, </a:t>
            </a:r>
            <a:br>
              <a:rPr sz="4000"/>
            </a:br>
            <a:r>
              <a:rPr b="0" lang="en-US" sz="4000" spc="-1" strike="noStrike">
                <a:solidFill>
                  <a:srgbClr val="f79c0b"/>
                </a:solidFill>
                <a:latin typeface="Arial"/>
              </a:rPr>
              <a:t>Now what?</a:t>
            </a:r>
            <a:endParaRPr b="0" lang="en-US" sz="4000" spc="-1" strike="noStrike">
              <a:solidFill>
                <a:srgbClr val="e3a35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57800" y="6254640"/>
            <a:ext cx="3897360" cy="614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2041560" cy="23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410160" y="281160"/>
          <a:ext cx="209556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10160" y="281160"/>
                    <a:ext cx="20955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3882960"/>
            <a:ext cx="4343400" cy="2973600"/>
          </a:xfrm>
          <a:prstGeom prst="rect">
            <a:avLst/>
          </a:prstGeom>
          <a:ln w="0">
            <a:noFill/>
          </a:ln>
        </p:spPr>
      </p:pic>
      <p:pic>
        <p:nvPicPr>
          <p:cNvPr id="103" name="Viv" descr=""/>
          <p:cNvPicPr/>
          <p:nvPr/>
        </p:nvPicPr>
        <p:blipFill>
          <a:blip r:embed="rId6"/>
          <a:stretch/>
        </p:blipFill>
        <p:spPr>
          <a:xfrm>
            <a:off x="6019920" y="2438280"/>
            <a:ext cx="284148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848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Look-At Constrain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Build a new orientation matrix directly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Create a vector to the look-at target (F)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Assume up to be U = (0 1 0)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U cross F to get R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Find real U by F cross R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Two problem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Ignores hierarchy (invert base matrix to fix)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DOF Constraints are tough to impos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Look-At Constrain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Instead of going from Matrix-&gt;Euler realize that normally we want the head upright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Effectively removes a DOF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Use Azimuth / Elevation representation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DOF constraints become easy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Look-At Constrain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5714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Treat each DOF as a separate geometry problem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62320" y="1066680"/>
          <a:ext cx="4324320" cy="43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066680"/>
                    <a:ext cx="43243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Look-At Constrain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Project coordinates into XZ plan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cos(</a:t>
            </a:r>
            <a:r>
              <a:rPr b="0" lang="en-US" sz="3200" spc="-1" strike="noStrike">
                <a:solidFill>
                  <a:srgbClr val="f79c0b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) = RE </a:t>
            </a:r>
            <a:r>
              <a:rPr b="0" lang="en-US" sz="3200" spc="-1" strike="noStrike">
                <a:solidFill>
                  <a:srgbClr val="f79c0b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 RD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= acos(RE </a:t>
            </a:r>
            <a:r>
              <a:rPr b="0" lang="en-US" sz="3200" spc="-1" strike="noStrike">
                <a:solidFill>
                  <a:srgbClr val="f79c0b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 RD)</a:t>
            </a: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tan(</a:t>
            </a:r>
            <a:r>
              <a:rPr b="0" lang="en-US" sz="3200" spc="-1" strike="noStrike">
                <a:solidFill>
                  <a:srgbClr val="f79c0b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Arial"/>
              </a:rPr>
              <a:t>) = Dx / Dz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= atan2(Dx,Dz)</a:t>
            </a: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638680" y="1295280"/>
          <a:ext cx="3403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295280"/>
                    <a:ext cx="3403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IK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Treating each joint as 3 DOF can be bad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Extra twists in Z are still valid solution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Need to enforce extra constraints to fix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Each joint should be classified by desired behavior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Shoulder is a 3D joint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Elbow is a 1D joint…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Secondary Motion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Use imbedded bones for other effect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Muscle Bulge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Make the scale of a bone dependant on the rotation of another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hest Heave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Periodically scale up a bone weighted to chest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  <a:ea typeface="Times New Roman"/>
              </a:rPr>
              <a:t>scale = 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79c0b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79c0b"/>
                </a:solidFill>
                <a:latin typeface="Arial"/>
                <a:ea typeface="Times New Roman"/>
              </a:rPr>
              <a:t>(sin( DEG2RAD(frame * 2)) / 4.0) + 1.25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  <a:ea typeface="Times New Roman"/>
              </a:rPr>
              <a:t>*Scale can be applied locally only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Dynamic driven bone system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79c0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</a:rPr>
              <a:t>Ponytails, cloth, belly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Motion Blending:</a:t>
            </a:r>
            <a:br>
              <a:rPr sz="4400"/>
            </a:b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Revenge of the Erp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You have some nice animations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But you want some variation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reate variations on-the-fly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Walk + Shoot = Walk &amp; Shoot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Generally, animations must be crafted to the same skeleton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Motion Blending:</a:t>
            </a:r>
            <a:br>
              <a:rPr sz="4400"/>
            </a:b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Revenge of the Erp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lassify each joint by it’s DOF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Allows optimized blending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1 DOF - LERP     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c = a * Lerp  + b * (1 – Lerp )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c = (b-a) * Lerp + a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2 DOF - LERP LERP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Important for Camera animation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3 DOF - SLERP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Here’s those darn Quaternions you read about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qResult = slerp(q1,q2,blend)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In-game Facial animation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What are the methods for animation?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Texture Swapping/Morphing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Bone Based 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Mesh Blending (Morphing)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ombination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Texture Swapping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Easy to create content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Photoshop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Runs Fast – Uses hardwar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Effects possible in no other way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Dynamic wrinkles in skin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Looks a bit odd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No more excuses for bad character animation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We are now able to devote processor time to things other than environment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Compelling 3D real-time characters go a long way towards enhancing the interactive experience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Or at least get you a preview in NextGen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Bone Based Facial Animation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Same animation engine for body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Can be accelerated by hardwar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With some restriction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Content creation difficult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Artists may want a lot of bones (30+)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Otherwise weighting is tricky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Animation harder then pulling CV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an map to performance capture data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Mesh Blending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ontent Creation easy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Pull CVs until look is perfect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an be accelerated by hardware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Number of blends may be issue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May have to be a software operation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Useful in place of a large number of bone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Face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Hands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Another layer in the pipeline needing optimization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Hybrid System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Take best features of all method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Bones where logical and easy to weight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Jaw, Eyes, Hair, etc.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Morph targets for detail work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Texture for fine dynamic detail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Render pipeline must be considered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Morphs need to happen pre-skeletal unless you want to rotate the deltas also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Face Targe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Viseme / Emotion Target approach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reate a frame for each Viseme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Also Emotions like Happy, Sad,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819520" y="2562120"/>
          <a:ext cx="343044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562120"/>
                    <a:ext cx="343044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Viseme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1. [p, b, m] - Closed lips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2. [w] &amp; [b</a:t>
            </a:r>
            <a:r>
              <a:rPr b="0" lang="en-US" sz="32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oo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t] - Pursed lips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3. [r*] &amp; [b</a:t>
            </a:r>
            <a:r>
              <a:rPr b="0" lang="en-US" sz="32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oo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k] -  [r] is made in the same place in the mouth as the sounds of d,t,n,s,z. If [r] is at the beginning of a word, then it fits here.  Try saying "right" vs. "car."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4. [v] &amp; [f ] – Lower lip drawn up to upper teeth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Viseme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5. [</a:t>
            </a:r>
            <a:r>
              <a:rPr b="0" lang="en-US" sz="28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y] &amp; [</a:t>
            </a:r>
            <a:r>
              <a:rPr b="0" lang="en-US" sz="28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th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igh] – Tongue between teeth, no gaps on sides.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6. [l] – Tip of tongue behind open teeth, gaps on sides.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7. [d,t,z,s,r*,n] – Relaxed mouth with mostly closed teeth with pinkness of tongue behind teeth (tip of tongue on ridge behind upper teeth). 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8. [vi</a:t>
            </a:r>
            <a:r>
              <a:rPr b="0" lang="en-US" sz="28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ion, </a:t>
            </a:r>
            <a:r>
              <a:rPr b="0" lang="en-US" sz="28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sh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y, </a:t>
            </a:r>
            <a:r>
              <a:rPr b="0" lang="en-US" sz="28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ive, </a:t>
            </a:r>
            <a:r>
              <a:rPr b="0" lang="en-US" sz="28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ch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ime] – Slightly open mouth with mostly closed teeth and corners of lips slightly tightened.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9. [y, g, k, ha</a:t>
            </a:r>
            <a:r>
              <a:rPr b="0" lang="en-US" sz="28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ng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, </a:t>
            </a:r>
            <a:r>
              <a:rPr b="0" lang="en-US" sz="28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uh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-oh]  - Slightly open mouth with mostly closed teeth.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Viseme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10. [b</a:t>
            </a:r>
            <a:r>
              <a:rPr b="0" lang="en-US" sz="32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ea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t, b</a:t>
            </a:r>
            <a:r>
              <a:rPr b="0" lang="en-US" sz="32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t] - Wide, slightly open mouth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11. [b</a:t>
            </a:r>
            <a:r>
              <a:rPr b="0" lang="en-US" sz="32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ai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t, b</a:t>
            </a:r>
            <a:r>
              <a:rPr b="0" lang="en-US" sz="32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t, b</a:t>
            </a:r>
            <a:r>
              <a:rPr b="0" lang="en-US" sz="32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u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t] - Neutral mouth with slightly parted teeth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12. [b</a:t>
            </a:r>
            <a:r>
              <a:rPr b="0" lang="en-US" sz="32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oa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t] - very round lips, slight dropped jaw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13. [b</a:t>
            </a:r>
            <a:r>
              <a:rPr b="0" lang="en-US" sz="32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t, b</a:t>
            </a:r>
            <a:r>
              <a:rPr b="0" lang="en-US" sz="3200" spc="-1" strike="noStrike" u="sng">
                <a:solidFill>
                  <a:srgbClr val="f79c0b"/>
                </a:solidFill>
                <a:uFillTx/>
                <a:latin typeface="Arial"/>
                <a:ea typeface="Times New Roman"/>
              </a:rPr>
              <a:t>ough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t] - open mouth with very dropped jaw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Face Targe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Viseme / Emotion Target approach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Small number of target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More needed for mirroring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Effect multiplication problem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876920" y="2982960"/>
          <a:ext cx="3551040" cy="38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982960"/>
                    <a:ext cx="355104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533520" y="3733920"/>
            <a:ext cx="40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Poser O + Smile + L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Face Targe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Physiological approach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Model Based on human physiology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reate targets based on muscle contraction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Academic Parametric models exist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Parke, Terzopoulos &amp; Waters, etc.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Good reference info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Requires some artistic rethinking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Face Targe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99840" y="57146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Corrugator Supercilii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 + </a:t>
            </a:r>
            <a:r>
              <a:rPr b="0" i="1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Procerus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743200" y="1306440"/>
          <a:ext cx="3519360" cy="42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306440"/>
                    <a:ext cx="351936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Towards Film Quality</a:t>
            </a: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Toy Story rendered at 1536x922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Though most game players don’t have 1400 processor systems for rendering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Graphics hardware companies are daring us to throw more polys at them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Realistic content is become the new bottleneck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Face Targe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43200" y="57146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Zygomaticus Major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94040" y="1306440"/>
          <a:ext cx="3354480" cy="42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4040" y="1306440"/>
                    <a:ext cx="3354480" cy="42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Face Targe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8000"/>
          </a:bodyPr>
          <a:p>
            <a:pPr marL="6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Visemes become Groups of Muscle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6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6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R” in Red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6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6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Purser 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50%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6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Left Sad 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30%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6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Right Sad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30%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6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Jaw Closed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79c0b"/>
                </a:solidFill>
                <a:latin typeface="Arial"/>
                <a:ea typeface="Times New Roman"/>
              </a:rPr>
              <a:t>10%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6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6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257800" y="2133720"/>
          <a:ext cx="3354480" cy="42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335448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Animation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Morph channels and bone rotations are done using our old friends the Erp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  <a:ea typeface="Times New Roman"/>
              </a:rPr>
              <a:t>We use a multi-track tape metaphor for layering muscle activations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Secondary Facial Animation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Eye Blink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</a:rPr>
              <a:t>Periodic and Asyncronous (vary 1-2 frames)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Slow eye drift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</a:rPr>
              <a:t>Use noisy stroll to stop vacant stare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Create a character with a real involuntary twitch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Times New Roman"/>
              </a:rPr>
              <a:t>Tie AI and emotional states to muscle group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Times New Roman"/>
              </a:rPr>
              <a:t>Angry, Happy, Surprised speech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Capturing Facial Motion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Motion Capture technique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Directly driving bone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Too much / Too little data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an give you data that doesn’t map well to your animation model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4397400" y="1600200"/>
          <a:ext cx="474660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97400" y="1600200"/>
                    <a:ext cx="4746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Gesture Recognition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Filter data to usable format by recognizing movement in muscle groups.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38080" y="2743200"/>
          <a:ext cx="305928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743200"/>
                    <a:ext cx="30592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Suppresion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Mutually exclusive muscle groups can counter-act each other through expression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Suppress actions of muscles that act in mutually exclusive directions.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Audio Processing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Products like LIPSInc’s Ventriloquist and Echo can give you are starting point for animation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Take in a wave file and output a phoneme/viseme stream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Rendering Technique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Can use all the effects IHVs allow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Alpha for Hair, eyelashes, clothing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Specular map and/or environment map for eye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Bump map and/or Detail texture for skin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Multi-texture techniques like BRDF for reflectance model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Non Photorealistic Technique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Real looking characters are hard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Embrace Limitation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Go for a more stylized look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Cartoon Rendering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Break the problem into two areas Inking and Painting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You know what 3D polygonal objects ar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You know a lot of 3D math already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We are not discussing how Matrix multiplication work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You know when to say “interpolation” and when it’s “interpenetration”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You know that the dot product is your friend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You have an core understanding of the technology of real-time rendering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Non Photorealistic Technique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401840"/>
          <a:ext cx="3924360" cy="399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01840"/>
                    <a:ext cx="3924360" cy="39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626000" y="1219320"/>
          <a:ext cx="4137120" cy="485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6000" y="1219320"/>
                    <a:ext cx="41371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Non Photorealistic Techniques</a:t>
            </a:r>
            <a:br>
              <a:rPr sz="4400"/>
            </a:b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Inking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Silhouette Strategy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ould use stencil or find outline by searching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Use existing hardware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Draw Front facing polygons flat shaded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Set Depth test to equal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Draw back facing in line mode with Depth test to less or equal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Use line params to beef up edg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Non Photorealistic Techniques</a:t>
            </a:r>
            <a:br>
              <a:rPr sz="4400"/>
            </a:b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Inking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2509920" y="1371600"/>
          <a:ext cx="4529160" cy="523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1371600"/>
                    <a:ext cx="45291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Non Photorealistic Techniques</a:t>
            </a:r>
            <a:br>
              <a:rPr sz="4400"/>
            </a:b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Inking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Hard Crease edge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Use dot product of shared face normals to classify edge sharpnes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Material Change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Mark edges where shared faces have a material change.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Draw all marked edges in Inking phas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In some situations these can be stored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Non Photorealistic Techniques</a:t>
            </a:r>
            <a:br>
              <a:rPr sz="4400"/>
            </a:b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Painting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Using vertex color or flat shading doesn’t give a cartoon look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Graphics hardware interpolates linear color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Really want to make a non-linear shading model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Non Photorealistic Techniques</a:t>
            </a:r>
            <a:br>
              <a:rPr sz="4400"/>
            </a:b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Painting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Encode non-linear function in a 1-D textur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Use dot product of light vector and vertex normal to look up shade to us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676520" y="3733920"/>
          <a:ext cx="60307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733920"/>
                    <a:ext cx="60307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Non Photorealistic Techniques</a:t>
            </a:r>
            <a:br>
              <a:rPr sz="4400"/>
            </a:b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Painting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Fetched shade is modulated with surface color or another texture (multi-texture)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Make sure and have Bilinear filtering off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14400" y="3124080"/>
          <a:ext cx="716292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124080"/>
                    <a:ext cx="71629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Non Photorealistic Techniques</a:t>
            </a:r>
            <a:br>
              <a:rPr sz="4400"/>
            </a:b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Future Ideas for Investigation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Jittering ink lines to stylized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What about alpha in shade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table with multi-texture?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This dot product lookup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could be accelerated using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pixel shader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6477120" y="1447920"/>
          <a:ext cx="1842840" cy="46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1842840" cy="46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Dynamic Simulation Element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Dynamic model moves vertice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loth patche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Soft body lattice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Dynamic model moves bones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Characters (we’ll see this afternoon)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Bones 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Can bone systems be used to encode higher level functions?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What does the Future Hold?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Faster 3D hardware is allowing more game cycles for character animation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Many Characters will be made from a deformable single mesh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Real-time Facial animation everywhere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More Sophisticated Physical  and Procedural Animation will be common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Dynamic Level of Detail for characters will be common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Character Technologies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Where to get more information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Game Developer Magazine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www.gdmag.com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www.gamasutra.com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Game Developer’s Conference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www.gdconf.com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SIGGRAPH Proceedings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www.darwin3d.com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Source and demos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79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c0b"/>
                </a:solidFill>
                <a:latin typeface="Arial"/>
              </a:rPr>
              <a:t>These Slides</a:t>
            </a:r>
            <a:endParaRPr b="0" lang="en-US" sz="2400" spc="-1" strike="noStrike">
              <a:solidFill>
                <a:srgbClr val="f79c0b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9c0b"/>
                </a:solidFill>
                <a:latin typeface="Arial"/>
              </a:rPr>
              <a:t>jeffl@darwin3d.com</a:t>
            </a:r>
            <a:endParaRPr b="0" lang="en-US" sz="2800" spc="-1" strike="noStrike">
              <a:solidFill>
                <a:srgbClr val="f79c0b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819760" y="6153120"/>
            <a:ext cx="3146400" cy="4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257800" y="6254640"/>
            <a:ext cx="389736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419720" y="1981080"/>
          <a:ext cx="4674960" cy="49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981080"/>
                    <a:ext cx="4674960" cy="49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Skeletally Deformed Mesh Character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Hybrid of single mesh and hierarchical characters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A single mesh is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deformed via a 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79c0b"/>
                </a:solidFill>
                <a:latin typeface="Arial"/>
              </a:rPr>
              <a:t>skeletal system.</a:t>
            </a:r>
            <a:endParaRPr b="0" lang="en-US" sz="32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457200" y="803160"/>
            <a:ext cx="4267080" cy="6207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5120" y="808200"/>
            <a:ext cx="566748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38480" y="1825560"/>
            <a:ext cx="762012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current(b)</a:t>
            </a: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What’s the math?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1339920"/>
            <a:ext cx="12956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rest</a:t>
            </a: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1600200"/>
            <a:ext cx="76197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rest(b)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-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79c0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a35b"/>
                </a:solidFill>
                <a:latin typeface="Arial"/>
              </a:rPr>
              <a:t>What’s the math?</a:t>
            </a:r>
            <a:endParaRPr b="0" lang="en-US" sz="4400" spc="-1" strike="noStrike">
              <a:solidFill>
                <a:srgbClr val="e3a35b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23880" y="2514600"/>
          <a:ext cx="7248600" cy="40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14600"/>
                    <a:ext cx="724860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Preferred Customer</dc:creator>
  <dc:description/>
  <dc:language>en-US</dc:language>
  <cp:lastModifiedBy>Jeff Lander</cp:lastModifiedBy>
  <dcterms:modified xsi:type="dcterms:W3CDTF">2000-03-12T15:57:25Z</dcterms:modified>
  <cp:revision>53</cp:revision>
  <dc:subject/>
  <dc:title>Training</dc:title>
</cp:coreProperties>
</file>